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F58-907F-4343-9860-60F1A4FD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EB3-440C-43FB-BC49-0A137FF5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A9B-49D2-4425-86E4-4FBF9FCE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4A4-0F71-4A3D-96F8-697EDA9A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35AD-0435-4965-81EF-F4B60EF4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99F2-86C7-430A-8191-033F976A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D4D4-4DF4-40B0-897A-B5D9B71C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A0B5-4A46-4151-9963-A1B511A0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CFD6-755A-4848-A678-C35E3AAD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D5C9-A3B8-4762-9BD5-C8ED3CBD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B97B-1501-410C-803D-0E56B674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ABD-1179-4406-A5EE-1E76791E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C21A-5E33-4D2A-BD9F-C290CDDD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9320-84B3-4AF6-854A-C7F31F52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49F4-9440-48B8-93FB-13B37696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82A1-C01B-4978-957D-3970115D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FC16-F121-4C97-91DF-359EE71C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FAB-2E6E-48AB-ABF7-4B08FB5B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2E3-F492-4042-8069-CF7C4DED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46D-95B4-4056-9780-068999FB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7EDD-CAF2-4DE5-B692-8F95EA16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C48-9139-471E-A393-10B61EE8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82C-3C4B-4870-AA64-DB0F1CD7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E56-D9EC-4522-8ECD-42A1F469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6318-53A7-4519-A3CE-A3CF9A53A73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6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7B3A-D5B6-4101-83B5-A2B4EDA51DE8}" type="slidenum">
              <a:rPr b="0" lang="en-CA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"/>
          <p:cNvSpPr/>
          <p:nvPr/>
        </p:nvSpPr>
        <p:spPr>
          <a:xfrm>
            <a:off x="4267080" y="295596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b2b2b2"/>
                </a:solidFill>
                <a:latin typeface="Century Schoolbook"/>
              </a:rPr>
              <a:t>Aa</a:t>
            </a:r>
            <a:endParaRPr b="0" lang="en-US" sz="2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Introduction to</a:t>
            </a:r>
            <a:br>
              <a:rPr sz="28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Visual Communications</a:t>
            </a:r>
            <a:br>
              <a:rPr sz="4400"/>
            </a:br>
            <a:br>
              <a:rPr sz="2200"/>
            </a:br>
            <a:r>
              <a:rPr b="1" lang="en-US" sz="4400" spc="-1" strike="noStrike">
                <a:solidFill>
                  <a:srgbClr val="660066"/>
                </a:solidFill>
                <a:latin typeface="Century Schoolbook"/>
              </a:rPr>
              <a:t>PART 1:</a:t>
            </a:r>
            <a:r>
              <a:rPr b="0" lang="en-US" sz="4400" spc="-1" strike="noStrike">
                <a:solidFill>
                  <a:srgbClr val="660066"/>
                </a:solidFill>
                <a:latin typeface="Century Schoolbook"/>
              </a:rPr>
              <a:t> 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entury Schoolbook"/>
              </a:rPr>
              <a:t>TGJ 2OI</a:t>
            </a:r>
            <a:br>
              <a:rPr sz="3200"/>
            </a:b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BLUEVALE COLLEGIATE INSTITU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592560" y="63565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a Introduction to Typography.pp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General Rules to Follow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Avoid using more than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 fonts on one page.  Using too many fonts may make a document/publication look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cluttered or sloppy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Avoid using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 fonts </a:t>
            </a: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from the same family close together (use styles of same font if possible)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Make sure you use 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consistent type sizes for longer publications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 (brochures, newsletters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Try to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manipulate fonts (stretch, space letters apart, etc.) or add styles to create visual interest instead of adding different fonts to a p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2a1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2a1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2a1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2a1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0" dur="1" fill="hold"/>
                                  <p:tgtEl>
                                    <p:spTgt spid="2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2a1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entury Schoolbook"/>
              </a:rPr>
              <a:t>TYPE ASSIGNMENT #1: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entury Schoolbook"/>
              </a:rPr>
              <a:t>Look through old magazines or newspapers to find at least 2 samples (large if possible) of fonts from each of the 4 font families (min. 8 tot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entury Schoolbook"/>
              </a:rPr>
              <a:t>For each sample, record where you found it and what purpose you think it had in the publication, ad, 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 </a:t>
            </a:r>
            <a:r>
              <a:rPr b="0" lang="en-US" sz="2400" spc="-1" strike="noStrike">
                <a:solidFill>
                  <a:srgbClr val="0000ff"/>
                </a:solidFill>
                <a:latin typeface="Impact"/>
              </a:rPr>
              <a:t>(write blue text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Schoolbook"/>
              </a:rPr>
              <a:t>We often don’t pay much attention to typography, but it can dramatically affect how we react to an ad, poster, package or tex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Type</a:t>
            </a:r>
            <a:r>
              <a:rPr b="0" lang="en-US" sz="2800" spc="-1" strike="noStrike">
                <a:solidFill>
                  <a:srgbClr val="003366"/>
                </a:solidFill>
                <a:latin typeface="Century Schoolbook"/>
              </a:rPr>
              <a:t> forms the basis for many desig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Schoolbook"/>
              </a:rPr>
              <a:t>Designers are careful to choose type styles that </a:t>
            </a: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suit the purpose of their designs</a:t>
            </a:r>
            <a:r>
              <a:rPr b="0" lang="en-US" sz="2800" spc="-1" strike="noStrike">
                <a:solidFill>
                  <a:srgbClr val="003366"/>
                </a:solidFill>
                <a:latin typeface="Century Schoolbook"/>
              </a:rPr>
              <a:t>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Schoolbook"/>
              </a:rPr>
              <a:t>The type should </a:t>
            </a: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fit the “mood” of your work (suggests feeling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entury Schoolbook"/>
              </a:rPr>
              <a:t>Regardless of type uses or purpose, </a:t>
            </a: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you want to make sure your text is readable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entury Schoolbook"/>
              </a:rPr>
              <a:t>Fonts are measured in </a:t>
            </a: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POINTS (</a:t>
            </a: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72</a:t>
            </a: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 points = </a:t>
            </a: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1</a:t>
            </a: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 inch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entury Schoolbook"/>
              </a:rPr>
              <a:t>All type faces, or </a:t>
            </a: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FONTS</a:t>
            </a:r>
            <a:r>
              <a:rPr b="0" lang="en-US" sz="3600" spc="-1" strike="noStrike">
                <a:solidFill>
                  <a:srgbClr val="003366"/>
                </a:solidFill>
                <a:latin typeface="Century Schoolbook"/>
              </a:rPr>
              <a:t>, can be placed in one of four </a:t>
            </a: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FONT FAMILIES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entury Schoolbook"/>
              </a:rPr>
              <a:t>Serif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entury Schoolbook"/>
              </a:rPr>
              <a:t>Sans Serif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entury Schoolbook"/>
              </a:rPr>
              <a:t>Scrip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entury Schoolbook"/>
              </a:rPr>
              <a:t>Decorative / Novelty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SERIF Fonts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Fonts in this family are categorized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by tiny “feet,” called serifs, on the ends of letter li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Includes fonts like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Times New Rom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Good for use as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BODY TEXT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 – small type for articles, etc. (easy to read when small – 10-12p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410080" y="2057400"/>
            <a:ext cx="3581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6f89f7"/>
                </a:solidFill>
                <a:latin typeface="Century Schoolbook"/>
              </a:rPr>
              <a:t>Aa</a:t>
            </a:r>
            <a:endParaRPr b="0" lang="en-US" sz="20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Line 5"/>
          <p:cNvSpPr/>
          <p:nvPr/>
        </p:nvSpPr>
        <p:spPr>
          <a:xfrm flipH="1" flipV="1">
            <a:off x="6095520" y="4571640"/>
            <a:ext cx="685800" cy="76212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705720" y="5257800"/>
            <a:ext cx="121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Schoolbook"/>
              </a:rPr>
              <a:t>serif (fee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Line 7"/>
          <p:cNvSpPr/>
          <p:nvPr/>
        </p:nvSpPr>
        <p:spPr>
          <a:xfrm flipV="1">
            <a:off x="7772400" y="4571640"/>
            <a:ext cx="685800" cy="76212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SANS SERIF Font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Fonts in this family are sometimes called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BLOCK letters – no feet on ends of lett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Includes fonts lik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rial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elveti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Suitable for </a:t>
            </a: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HEADLINES or larger font siz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Not easy to read when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 smaller than 12pt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– avoid use as body text (except for web pag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867280" y="1995480"/>
            <a:ext cx="3276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200" spc="-1" strike="noStrike">
                <a:solidFill>
                  <a:srgbClr val="6f89f7"/>
                </a:solidFill>
                <a:latin typeface="Arial"/>
              </a:rPr>
              <a:t>Aa</a:t>
            </a:r>
            <a:endParaRPr b="0" lang="en-US" sz="18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entury Schoolbook"/>
              </a:rPr>
              <a:t>SCRIPT Font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Fonts in this family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look like fancy handwri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Letters are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joined together and flow smooth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Use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sparingly (too much gets annoying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Never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use as all capitals (difficult to read) or as body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Ex. –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mercialScript BT"/>
              </a:rPr>
              <a:t>Commercial Script B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5943600" y="2011320"/>
            <a:ext cx="32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6f89f7"/>
                </a:solidFill>
                <a:latin typeface="CommercialScript BT"/>
              </a:rPr>
              <a:t>Aa</a:t>
            </a:r>
            <a:endParaRPr b="0" lang="en-US" sz="18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DECORATIVE / NOVELTY Fo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Fonts in this family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are unusual and don’t fit into other categor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Usually “trendy” or “funky” fonts such as,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Jokerman, Slipstream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Use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sparingly – for emphasis or interest on a p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Never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use these as body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Can evoke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many types of moods (fun, scary, coo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7162920" y="1523880"/>
            <a:ext cx="16761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f89f7"/>
                </a:solidFill>
                <a:latin typeface="Parchment"/>
              </a:rPr>
              <a:t>Aa</a:t>
            </a:r>
            <a:endParaRPr b="0" lang="en-US" sz="10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086600" y="3124080"/>
            <a:ext cx="2057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f89f7"/>
                </a:solidFill>
                <a:latin typeface="Jokerman"/>
              </a:rPr>
              <a:t>Aa</a:t>
            </a:r>
            <a:endParaRPr b="0" lang="en-US" sz="10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7315200" y="4572000"/>
            <a:ext cx="1600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f89f7"/>
                </a:solidFill>
                <a:latin typeface="Curlz MT"/>
              </a:rPr>
              <a:t>Aa</a:t>
            </a:r>
            <a:endParaRPr b="0" lang="en-US" sz="10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tro to Typograph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Font Styles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You can change a font’s appearance by using </a:t>
            </a: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styles</a:t>
            </a:r>
            <a:r>
              <a:rPr b="1" lang="en-US" sz="2400" spc="-1" strike="noStrike">
                <a:solidFill>
                  <a:srgbClr val="003366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entury Schoolbook"/>
              </a:rPr>
              <a:t>1.</a:t>
            </a: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  BOLD 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– letter lines are heavier (stand ou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entury Schoolbook"/>
              </a:rPr>
              <a:t>2.</a:t>
            </a:r>
            <a:r>
              <a:rPr b="0" i="1" lang="en-US" sz="2400" spc="-1" strike="noStrike">
                <a:solidFill>
                  <a:srgbClr val="0000ff"/>
                </a:solidFill>
                <a:latin typeface="Century Schoolbook"/>
              </a:rPr>
              <a:t>  Italic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– letters have a slight lean to the righ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3.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entury Schoolbook"/>
              </a:rPr>
              <a:t>Underline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– kinda’ obvio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.  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You can also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stretch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fonts or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change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the space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(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kerning</a:t>
            </a: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between letters to give a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different appearance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entury Schoolbook"/>
              </a:rPr>
              <a:t>or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entury Schoolbook"/>
              </a:rPr>
              <a:t>weight to text</a:t>
            </a:r>
            <a:r>
              <a:rPr b="0" lang="en-US" sz="2400" spc="-1" strike="noStrike">
                <a:solidFill>
                  <a:srgbClr val="0000ff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Styles create variety without cluttering a document with too many font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1:31:39Z</dcterms:created>
  <dc:creator>Greg Todd</dc:creator>
  <dc:description/>
  <dc:language>en-US</dc:language>
  <cp:lastModifiedBy>Chuck's Computer</cp:lastModifiedBy>
  <dcterms:modified xsi:type="dcterms:W3CDTF">2011-09-05T02:55:37Z</dcterms:modified>
  <cp:revision>16</cp:revision>
  <dc:subject/>
  <dc:title>Introduction to Visual Communications  PART 1:  Typography</dc:title>
</cp:coreProperties>
</file>